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827-6EE8-4EAF-A49F-4BD185B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62C-0C17-40FF-B161-BDA206FD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607-F886-4334-978F-8B63D10A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181-13D2-4A91-A9BC-0CB08F62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B7B-CA8A-4DD4-BF21-11769B6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29F-EBBF-4527-914C-ADDD7E9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EB4-1797-4E70-914C-A6084D5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2F0-F872-444B-9526-0103409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FF1-A97E-49E1-9928-1E6935C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637-55B7-4807-9234-08DAEA0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8D6-5DEA-4AF3-A50E-462574C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F06-EE26-43D9-8D48-18A8575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AA2C-A726-4728-830D-16C7190F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lobalnerdy.com/wordpress/wp-content/uploads/2008/10/curve_right_sign.jpg&amp;imgrefurl=http://www.globalnerdy.com/2008/10/17/company-man-or-the-new-job/&amp;usg=__QmVNFzDMjqoulOVQlW7xLmsXaC8=&amp;h=375&amp;w=500&amp;sz=29&amp;hl=en&amp;start=1&amp;sig2=lZeEk3RkoMFUCRAqvG62bQ&amp;zoom=1&amp;itbs=1&amp;tbnid=gQXDW6ZW8NsV0M:&amp;tbnh=98&amp;tbnw=130&amp;prev=/images%3Fq%3Dto%2Bthe%2Bright%2Bsign%26hl%3Den%26gbv%3D2%26tbs%3Disch:1&amp;ei=jMYuTYjPDsGblgfs863CCQ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lobalnerdy.com/wordpress/wp-content/uploads/2008/10/curve_right_sign.jpg&amp;imgrefurl=http://www.globalnerdy.com/2008/10/17/company-man-or-the-new-job/&amp;usg=__QmVNFzDMjqoulOVQlW7xLmsXaC8=&amp;h=375&amp;w=500&amp;sz=29&amp;hl=en&amp;start=1&amp;sig2=lZeEk3RkoMFUCRAqvG62bQ&amp;zoom=1&amp;itbs=1&amp;tbnid=gQXDW6ZW8NsV0M:&amp;tbnh=98&amp;tbnw=130&amp;prev=/images%3Fq%3Dto%2Bthe%2Bright%2Bsign%26hl%3Den%26gbv%3D2%26tbs%3Disch:1&amp;ei=jMYuTYjPDsGblgfs863CCQ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לים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3-3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שר  /   טלפון  ציבורי  /   איך ?  /  ימינה  /   שמאלה /  כולם  /   נוסעים /  הוא  נוס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אי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להי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3773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מי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66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ימינה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79856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שמאל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333399"/>
                </a:solidFill>
                <a:latin typeface="Arial"/>
              </a:rPr>
              <a:t>כולם</a:t>
            </a:r>
            <a:r>
              <a:rPr b="1" lang="he-IL" sz="8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3059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כול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אוהב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סבת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יהוד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נוסע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71800" y="18478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אוט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נוס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שלג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6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נוס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באוטוב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577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נוס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לטיו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6100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.....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16192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ך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__ __ __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יש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857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he-IL" sz="5400" spc="-1" strike="noStrike">
                <a:solidFill>
                  <a:srgbClr val="99cc00"/>
                </a:solidFill>
                <a:latin typeface="Arial"/>
              </a:rPr>
              <a:t>__ __ __ __ __ 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ציבור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3614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ד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עוב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אי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4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_ _ _ _ _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ימינ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__ __ __ __ __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שמאל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1520" y="22096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__ __ __ __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65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כול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305920" cy="35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אוט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__ __ __ __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ב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שלג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נוס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6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__ __ __ __ __ _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טי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נוסעי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10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57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הולכ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10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3614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מד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בטלפ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808080"/>
                </a:solidFill>
                <a:latin typeface="Arial"/>
              </a:rPr>
              <a:t>גם הם</a:t>
            </a:r>
            <a:r>
              <a:rPr b="0" lang="he-IL" sz="60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מדברים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ב</a:t>
            </a: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he-IL" sz="54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י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דב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עוב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4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9:25:08Z</dcterms:created>
  <dc:creator>Preferred Customer</dc:creator>
  <dc:description/>
  <dc:language>en-US</dc:language>
  <cp:lastModifiedBy>aschlezinger</cp:lastModifiedBy>
  <dcterms:modified xsi:type="dcterms:W3CDTF">2011-01-17T18:58:31Z</dcterms:modified>
  <cp:revision>2</cp:revision>
  <dc:subject/>
  <dc:title>שיעור  1    מילים   23-30  </dc:title>
</cp:coreProperties>
</file>